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4.jpeg" ContentType="image/jpeg"/>
  <Override PartName="/ppt/media/image15.wmf" ContentType="image/x-wmf"/>
  <Override PartName="/ppt/media/image7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565-B2BA-4AB8-A824-D1E101FE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6F83-D8E0-4709-93E4-EF95D212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CADE-62FA-42F0-ADFF-D4CA8712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8AE-1925-46C8-9891-758951E7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2377-885E-4F30-BC55-D39E4202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8866-7394-4C4F-8147-40432566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146-FF2B-40CA-A74B-1AF0B5A5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E7B-BCFC-447B-A857-3BAE1450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D471-33E4-4143-89BA-26D6ACCD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853-00E0-4D4F-9161-B8C3666B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D55-5C72-4721-8D45-8DD51CD8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287D-0DD8-4B72-B38F-DC2BECB0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Documents and Settings\Sam Grogan\My Documents\Proxima\Set1.5\5.bmp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743200" y="647712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12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4317-DC0B-4E91-AE70-93777A4AB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mercials &amp; Advertis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Picture 4" descr="C:\WINDOWS\Application Data\Microsoft\Media Catalog\Downloaded Clips\cl36\j0136689.wmf"/>
          <p:cNvPicPr/>
          <p:nvPr/>
        </p:nvPicPr>
        <p:blipFill>
          <a:blip r:embed="rId1"/>
          <a:stretch/>
        </p:blipFill>
        <p:spPr>
          <a:xfrm>
            <a:off x="2133720" y="2209680"/>
            <a:ext cx="48006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w did that commercial do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d it attract your atten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d it keep you interested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d you want a glass of Kool-aid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you want go buy Kool-aid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would you do differentl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" name="Picture 4" descr="C:\WINDOWS\Application Data\Microsoft\Media Catalog\Downloaded Clips\cl29\j0104726.wmf"/>
          <p:cNvPicPr/>
          <p:nvPr/>
        </p:nvPicPr>
        <p:blipFill>
          <a:blip r:embed="rId1"/>
          <a:stretch/>
        </p:blipFill>
        <p:spPr>
          <a:xfrm>
            <a:off x="685800" y="4876920"/>
            <a:ext cx="1816200" cy="1103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:\WINDOWS\Application Data\Microsoft\Media Catalog\Downloaded Clips\cl29\j0104726.wmf"/>
          <p:cNvPicPr/>
          <p:nvPr/>
        </p:nvPicPr>
        <p:blipFill>
          <a:blip r:embed="rId2"/>
          <a:stretch/>
        </p:blipFill>
        <p:spPr>
          <a:xfrm>
            <a:off x="6172200" y="4876920"/>
            <a:ext cx="1816200" cy="1103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C:\WINDOWS\Application Data\Microsoft\Media Catalog\Downloaded Clips\cl29\j0104726.wmf"/>
          <p:cNvPicPr/>
          <p:nvPr/>
        </p:nvPicPr>
        <p:blipFill>
          <a:blip r:embed="rId3"/>
          <a:stretch/>
        </p:blipFill>
        <p:spPr>
          <a:xfrm>
            <a:off x="3352680" y="4876920"/>
            <a:ext cx="181620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pany Logo’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" name="Picture 4" descr="http://www.techages.com/articles/wp-content/uploads/2007/09/company-logos1.gif"/>
          <p:cNvPicPr/>
          <p:nvPr/>
        </p:nvPicPr>
        <p:blipFill>
          <a:blip r:embed="rId1"/>
          <a:stretch/>
        </p:blipFill>
        <p:spPr>
          <a:xfrm>
            <a:off x="2057400" y="1447920"/>
            <a:ext cx="4952880" cy="468468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304920" y="19810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ny of these familia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w it’s your turn to decide, what kind of commercial will you mak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Picture 5" descr="C:\WINDOWS\Application Data\Microsoft\Media Catalog\Downloaded Clips\cl3f\j0158117.wmf"/>
          <p:cNvPicPr/>
          <p:nvPr/>
        </p:nvPicPr>
        <p:blipFill>
          <a:blip r:embed="rId1"/>
          <a:stretch/>
        </p:blipFill>
        <p:spPr>
          <a:xfrm>
            <a:off x="3581280" y="1295280"/>
            <a:ext cx="1743120" cy="1820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WINDOWS\Application Data\Microsoft\Media Catalog\Downloaded Clips\cl3f\j0158051.wmf"/>
          <p:cNvPicPr/>
          <p:nvPr/>
        </p:nvPicPr>
        <p:blipFill>
          <a:blip r:embed="rId2"/>
          <a:stretch/>
        </p:blipFill>
        <p:spPr>
          <a:xfrm>
            <a:off x="1600200" y="2286000"/>
            <a:ext cx="1646280" cy="183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C:\WINDOWS\Application Data\Microsoft\Media Catalog\Downloaded Clips\cl3f\j0158051.wmf"/>
          <p:cNvPicPr/>
          <p:nvPr/>
        </p:nvPicPr>
        <p:blipFill>
          <a:blip r:embed="rId3"/>
          <a:stretch/>
        </p:blipFill>
        <p:spPr>
          <a:xfrm>
            <a:off x="5638680" y="2438280"/>
            <a:ext cx="1646280" cy="183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:\WINDOWS\Application Data\Microsoft\Media Catalog\Downloaded Clips\cl38\j0141379.wmf"/>
          <p:cNvPicPr/>
          <p:nvPr/>
        </p:nvPicPr>
        <p:blipFill>
          <a:blip r:embed="rId4"/>
          <a:stretch/>
        </p:blipFill>
        <p:spPr>
          <a:xfrm>
            <a:off x="3276720" y="3352680"/>
            <a:ext cx="244944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3" descr="C:\WINDOWS\Application Data\Microsoft\Media Catalog\Downloaded Clips\cl5c\j0232378.wmf"/>
          <p:cNvPicPr/>
          <p:nvPr/>
        </p:nvPicPr>
        <p:blipFill>
          <a:blip r:embed="rId1"/>
          <a:stretch/>
        </p:blipFill>
        <p:spPr>
          <a:xfrm>
            <a:off x="2286000" y="1066680"/>
            <a:ext cx="4589640" cy="5181840"/>
          </a:xfrm>
          <a:prstGeom prst="rect">
            <a:avLst/>
          </a:prstGeom>
          <a:ln w="0">
            <a:noFill/>
          </a:ln>
        </p:spPr>
      </p:pic>
      <p:sp>
        <p:nvSpPr>
          <p:cNvPr id="83" name="WordArt 9"/>
          <p:cNvSpPr txBox="1"/>
          <p:nvPr/>
        </p:nvSpPr>
        <p:spPr>
          <a:xfrm>
            <a:off x="2057400" y="5715000"/>
            <a:ext cx="509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ke a Commercial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ere do we find advertisements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dvertisement or a commercial  can be found in a newspaper, on TV, on the Internet, and on the radi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 you think of anywhere else we’d find advertisement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Picture 4" descr="C:\My Documents\My Pictures\busad.jpg"/>
          <p:cNvPicPr/>
          <p:nvPr/>
        </p:nvPicPr>
        <p:blipFill>
          <a:blip r:embed="rId1"/>
          <a:stretch/>
        </p:blipFill>
        <p:spPr>
          <a:xfrm>
            <a:off x="1600200" y="4572000"/>
            <a:ext cx="2658960" cy="161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My Documents\My Pictures\billboard.jpg"/>
          <p:cNvPicPr/>
          <p:nvPr/>
        </p:nvPicPr>
        <p:blipFill>
          <a:blip r:embed="rId2"/>
          <a:stretch/>
        </p:blipFill>
        <p:spPr>
          <a:xfrm>
            <a:off x="6705720" y="4343400"/>
            <a:ext cx="190476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are advertisements for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get us to come to a sto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announce a new produ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ssure custom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tify customers about specia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get us to ask ques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make people aware of brand names and 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33520" y="1295280"/>
            <a:ext cx="8076960" cy="4191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523880" y="1981080"/>
            <a:ext cx="6096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an you think of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other reason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" name="Picture 12" descr="C:\WINDOWS\Application Data\Microsoft\Media Catalog\Downloaded Clips\cl2a\j0105188.wmf"/>
          <p:cNvPicPr/>
          <p:nvPr/>
        </p:nvPicPr>
        <p:blipFill>
          <a:blip r:embed="rId1"/>
          <a:stretch/>
        </p:blipFill>
        <p:spPr>
          <a:xfrm>
            <a:off x="-228600" y="380880"/>
            <a:ext cx="251460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mercials make us want thing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" name="Picture 4" descr="A:\buybuy.gif"/>
          <p:cNvPicPr/>
          <p:nvPr/>
        </p:nvPicPr>
        <p:blipFill>
          <a:blip r:embed="rId1"/>
          <a:srcRect l="0" t="0" r="0" b="5000"/>
          <a:stretch/>
        </p:blipFill>
        <p:spPr>
          <a:xfrm>
            <a:off x="1523880" y="1289160"/>
            <a:ext cx="609624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w do they do that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ercials use different ways to make us want to buy thing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rto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ing it look ‘cool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mission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– “part” of a healthy breakfa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ying at our Heartstr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ndwagon, Star Power, Repetition, there are many ways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et’s get a look at one, first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COOLWHIP.AVI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3017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makes a good commercial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s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ort Messa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um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ppy Peop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mily Fu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eated Messa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09480" y="2057400"/>
            <a:ext cx="8077320" cy="3200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C:\WINDOWS\Application Data\Microsoft\Media Catalog\BD00028_.WMF"/>
          <p:cNvPicPr/>
          <p:nvPr/>
        </p:nvPicPr>
        <p:blipFill>
          <a:blip r:embed="rId1"/>
          <a:stretch/>
        </p:blipFill>
        <p:spPr>
          <a:xfrm>
            <a:off x="5486400" y="2209680"/>
            <a:ext cx="2870280" cy="2811600"/>
          </a:xfrm>
          <a:prstGeom prst="rect">
            <a:avLst/>
          </a:prstGeom>
          <a:ln w="0">
            <a:noFill/>
          </a:ln>
        </p:spPr>
      </p:pic>
      <p:sp>
        <p:nvSpPr>
          <p:cNvPr id="63" name="WordArt 6"/>
          <p:cNvSpPr txBox="1"/>
          <p:nvPr/>
        </p:nvSpPr>
        <p:spPr>
          <a:xfrm>
            <a:off x="1676520" y="2362320"/>
            <a:ext cx="2771640" cy="26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se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does a commercial need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be less than 1 minut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attract atten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keep inter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develop desire (make people want the produc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call to action (make people go buy the produc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other exampl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KOOL-AID.AVI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8528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Grant Carter Modified</dc:creator>
  <dc:description/>
  <dc:language>en-US</dc:language>
  <cp:lastModifiedBy>Admin</cp:lastModifiedBy>
  <dcterms:modified xsi:type="dcterms:W3CDTF">2010-07-01T21:10:32Z</dcterms:modified>
  <cp:revision>16</cp:revision>
  <dc:subject/>
  <dc:title>PowerPoint Presentation</dc:title>
</cp:coreProperties>
</file>